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9CA-3085-4FA6-8EED-49E30542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F6D-AE7F-4261-8EA1-8C0C8CE7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A0E-7BEC-444B-B386-AEC674F3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34F-AC0F-4283-BB9A-174F56A4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4983-5760-44E1-8D6C-BEFBCFFC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CC9A-DF17-4C8A-8D87-E19603A2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4F88-BFEF-4520-AB6A-85291045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E41D-2CFA-4010-8DE2-06455EA5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2B75-CF46-45A3-9F43-7AFE219A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2171-4248-486C-8BD2-60735041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F175-82BB-44E7-A004-10202D24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EC5-F157-4FEB-82C0-B71CDD86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5F0A-7FB4-429A-9B8F-EBAABCFB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6626-20E8-4934-B5F4-7378C9DB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9B96-E70D-4AFC-90AD-C0D601C1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C4AC-8251-4511-8A76-ED063AF7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466A-4C1C-426D-9732-138F2384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9CF-A26E-4921-9513-02EAC444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996-AA8F-409F-83E7-3909E3BC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4C0-34A6-468C-9563-E4762308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9BB-B041-4895-A57D-BDF590F7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243-A934-42B3-807E-56DA4DB0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183-FE08-4B2E-B132-42053211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D25-9175-49B2-A461-5AB0968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5C37-4C05-4091-BFDE-91F03FF1626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3694-52FC-4F9D-985A-A76BFB0EF5E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Зрелая лирика в творчестве Анны Андреевны Ахматовой (1889-1966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3581280"/>
            <a:ext cx="739152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Студентка филологического факультета 341 группа Савина М.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"/>
              </a:rPr>
              <a:t>                                            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Сыктывкар 2010 г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184284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Специфика зрелой лирики Ахматов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Знакомство Ахматовой с Блоко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Замыслы Ахматов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Основные темы в творчеств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Новые жанры в зрелой лирик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67057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пецифика зрелой лирики Ахматово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пецифика зрелой лирики Ахматовой заключается в том, что у нее появляется аналитизм, философичность в осмыслении тем в произведениях. Так,  как она,  может чувствовать только человек исторический. Ее стихотворения становятся переживаниями истории, и это переживание является сферой личной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Зрелый этап творчества- трагичен. Это период ее творческого молчания, но она занималась переводами. Ахматова пытается осмыслить эпоху, весомость време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3313080" cy="396252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rId4" action="ppaction://hlinksldjump"/>
          </p:cNvPr>
          <p:cNvSpPr/>
          <p:nvPr/>
        </p:nvSpPr>
        <p:spPr>
          <a:xfrm>
            <a:off x="67057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467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Знакомство Ахматовой с Блоком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 А.Блоком Ахматова знакомится в поезде летом 1914 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Их общей темой в творчестве стала тема трагической судьбы "поколения" и суда над ним с точки зрения истории (поэма Блока "Возмездие" (1910-1921) и "триптих" Ахматовой "Поэма без героя", точнее - его первая часть "Девятьсот тринадцатый год. Петербургская повесть».Также звучит тема, проходящая через все восприятие исторического прошлого в поэмах Блока, Ахматова в то же время производит суд и произносит приговор над собою и своими современниками. Ее не покидает сознание роковой обреченности окружающего ее мира, ощущение близости социальной катастрофы, трагической "расплаты" ("Все равно подходит расплата") - в смысле блоковского "возмездия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”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3530880" cy="263052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66294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мыслы Ахматово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162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мыслы Ахматовой в зрелом творчестве заключаются в освобождении сына из тюрьмы, в продолжении ранней лирики, в осмыслении опыта поколений. Появляется стремление к гражданскому стиху. 40-60 годы оставили огромный шрам на ее душе: Ахматова жила в ужасное время и вела себя, по словам Надежды Мандельштам, героически. Все имеющиеся свидетельства говорят об этом. Ни публично, ни частным образом она ни разу не высказалась против советского режима; однако вся ее жизнь может служить примером того, что Герцен сказал однажды почти обо всей русской литературе, - одним непрерывным обвинительным актом русской действительности... Ее жизнь стала легендой. Ее несгибаемое пассивное сопротивление тому, что она считала недостойным себя и страны (как в свое время предсказал Белинский по поводу Герцена), создало ей место не только в русской литературе, но и в русской истории нашего ве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7010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Основные темы в творчестве Ахматовой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Без сомнения, центральной темой творчества Анны Ахматовой является Любов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Лирическая героиня Ахматовой не олицетворяет собой какой-то безупречно-определенный человеческий образ с соответствующими ему чертами характера. Она и любима, и отвергнута, кого-то возносит на алтарь, а кого-то без сожаления покидает. Она холодна и неприступна, но если приглядеться, то легко заметить тайное томление в глазах бездонной глубины, манящих захлебнуться солеными волнами безудержной страсти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Любовь к Родине занимает особенное место в творчестве А. А. Ахматовой. Уже повзрослевшая вместе с поэтом лирическая героиня, сознавая происходящее вокруг, весь ужас и неизбежность Апокалипсиса, делает вполне осознанный выбор:Ахматова остается со своим народом. Свои нежные чувства к любимым местам страны она безраздельно связывает с ее историей. В годы беспощадных сталинских репрессий, когда судьба нанесла Ахматовой два тяжелейших удара — расстрел мужа Николая Гумилёва и арест единственного сына, — она создает свой шедевр — “Реквием”. Посвящение всем жертвам кровавого террора, обвинение и обличение власти, повествование о страданиях невинных людей — все нашло отражение в этом произведении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овые жанры в зрелой лирик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904760"/>
            <a:ext cx="7386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араллельно новым темам в ее лирике появляются и новые жанры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Элег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Гражданский сти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эм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Циклы памя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CTOR</cp:lastModifiedBy>
  <dcterms:modified xsi:type="dcterms:W3CDTF">2010-05-05T12:29:4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